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B64C-17E5-4B57-9605-09F9F4CEE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6E00-5ABC-4480-88DD-3BE09B76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FADD-087F-4EA0-9DE9-B1CA4937D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8456-A5AF-4B18-A66F-76303A8CB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82B16-C72A-4731-9BD1-894AFEB00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8AB4-C568-450B-A910-514E171E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6C21E-C5E8-41AF-A20B-1C67A0D8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71AF-861E-4814-8A9C-F22257C3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6EFB-BDE0-4FA1-A1D1-A77DE290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A4DEB-ECC0-45EE-8C2A-73728DCA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6BF3-7DFE-4548-BB03-1A401350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FA3F-892D-44DC-B306-93B6EA2A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2D0F-1297-4A9F-BFF6-D1A49FBE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8CEA-FDC5-4B55-B37E-3AC0F1DF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A1C7-4852-45AC-806F-21E1C619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CE862-2A2A-4A66-8AF3-0BD203314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EE0D-5E6C-44B0-9774-88B6AB7F5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A087-477E-44E5-AE6C-2B42AE01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9BE1-E9AA-4F4A-B65C-FE5F1D3A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8C8D-79B2-4585-9A23-3812E508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54E3-0242-4F11-8EF1-407E8B18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02A8-2829-4D05-9B8E-4DA9C6E9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F5BC-BA04-4BE3-B250-3BF35DE7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2533-FEE5-4A31-81CE-CF28E926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60F6-A7B5-4567-AFE9-8B4D044AB5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1327-868D-40CF-ADFA-20670502D29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640" y="16999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ZIRLAY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İNE HATİPOĞL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763640" y="1628640"/>
            <a:ext cx="6048360" cy="212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ÜKLEİK ASİTLER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516720" y="3933720"/>
            <a:ext cx="2022480" cy="2594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50920" y="4005360"/>
            <a:ext cx="2000160" cy="2565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RNA) RİBONÜKLEİK ASİ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Tek zincirlidir.</a:t>
            </a:r>
            <a:br>
              <a:rPr sz="3200"/>
            </a:b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• Riboz şekeri bulunur.</a:t>
            </a:r>
            <a:br>
              <a:rPr sz="3200"/>
            </a:b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• Nükleotitleri A,U,G,S’dir.</a:t>
            </a:r>
            <a:br>
              <a:rPr sz="3200"/>
            </a:b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• Kendini eşleyemez.DNA’dan sentezlenir.</a:t>
            </a:r>
            <a:br>
              <a:rPr sz="3200"/>
            </a:b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• Mitokondri,kloroplast,çekirdek ve sitoplazmada bulunabilir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1280" y="2205000"/>
            <a:ext cx="44654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3 çeşittir ve hepsi de protein sentezinde görevlidir.çekirdekte üretilir ve tekrar tekrar kullanılabilirler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Riboz şekeri bulunduran Adenin nükleotidi RNA’dan başka ATP,NAD,NADP ve FAD gibi moleküllerinde bulunur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Bazı virüslerde sadece RNA bulunduğu için bunlarda RNA kalıtsal görevi üstlenmiştir,yani kendini eşleyebilir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148360" y="2637000"/>
            <a:ext cx="381636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362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RNA’nın yapısında protein yoktu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• RNA’ların DNA üzerinden sentezine transkripsiyon (yazılma) deni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• Bu olay DNA’nın tek zincirinden olu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• Bu olayda görevli enzim RNA polimeraz enzimidir. 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• RNA’ya şifre veren DNA parçasına gen denir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99000" y="1268280"/>
            <a:ext cx="4365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A) mRNA (Elçi RNA = Mesajcı RNA)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DNA’dan aldığı bilgiyi ribozoma taşır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Ribozom birimlerini aktifleştirir ve protein sentezine kalıplık yapa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• Her protein çeşidi için ayrı bir mRNA sentezleni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• Bir mRNA aynı proteinin sentezinde çok defa kullanılabili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• Yeterli protein sentezlendikten sonra mRNA yıkılı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• mRNA düz bir zincir biçiminde olup hücredeki RNA’ların en az oranda bulunanıdır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A) mRNA (Elçi RNA = Mesajcı RNA)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356000" y="2060280"/>
            <a:ext cx="44640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mRNA’ daki üçlü nükleotit grubuna kodon deni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Her kodon bir tRNA ve bir aminoasiti belirle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tr-TR" sz="20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=64 çeşit kodon vardır.Bunlardan biri başlama kodonu (AUG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üç tanesi de (UAG-UGA-UAA) bitiş kodonudu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itiş kodonlarının aminoasiti yoktur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3889440" cy="36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B) tRNA (Taşıyıcı RNA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55280" y="2205000"/>
            <a:ext cx="482436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Sitoplazmadaki aminoasitleri mRNA’ daki şifreye göre ribozoma götürü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RNA’ daki üçlü nükleotit grubuna antikodon denir.Maksimum 64 çeşit antikodon olması gerekirken 61 çeşit antikodon vardır.Bunun sebebi ise bitiş kodonlarının aminoasitlerinin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olmamasıdı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Düz zincirli değildir.Belli bölgelerinde çiftler oluşmuştur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651640" y="1989000"/>
            <a:ext cx="327312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C) rRNA (Ribozomal RNA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8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Proteinlerle birlikte ribozomun yapısını oluşturur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üz zincirlidir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Hücredeki RNA’ların çoğu rRNA’dır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0000" y="2205000"/>
            <a:ext cx="446400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971640" y="2997360"/>
            <a:ext cx="800244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ENİ DİNLEDİĞİNİZ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İÇİN TEŞEKKÜRL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NÜKLEİK ASİT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1773360"/>
            <a:ext cx="8280360" cy="43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u moleküller ilk defa Friderich Miescher tarafından balık spermi ve akyuvar çekirdeğindetespit edilmişt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En çok çekirdekte bulundukları için nükleik asitler(çekirdek asitleri) diye isimlendirilmişt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Asidik özelliğe sahiptirler.Hücre yönetiminden sorumludur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DNA ve RNA olmak üzere 2 tipt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unlar hücrenin en büyük dev moleküllerdir.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Nükleotitlerden oluşmuştur.Onun için DNA ve RNA birer polinükleotidti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ÜKLEOTİ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4762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Nükleotid denilen birimlerden meydana gelmişlerdi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Nükleotid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Fosfat(H</a:t>
            </a:r>
            <a:r>
              <a:rPr b="0" lang="tr-TR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O</a:t>
            </a:r>
            <a:r>
              <a:rPr b="0" lang="tr-TR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), 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5 C lu şeker 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zotlu organik bazdan oluşur. Nükleotidler isimlerini taşıdıkları organik baza göre alırl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387684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NA-RNA YAPISAL FARKLILIKLA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84360" y="2133720"/>
          <a:ext cx="8002440" cy="4031640"/>
        </p:xfrm>
        <a:graphic>
          <a:graphicData uri="http://schemas.openxmlformats.org/drawingml/2006/table">
            <a:tbl>
              <a:tblPr/>
              <a:tblGrid>
                <a:gridCol w="1600560"/>
                <a:gridCol w="1600920"/>
                <a:gridCol w="1599120"/>
                <a:gridCol w="1600920"/>
                <a:gridCol w="1600920"/>
              </a:tblGrid>
              <a:tr h="736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ÜKLEİK ASİ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NTO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5 C’LU ŞEKE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’LU ORGANİK 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SFORİK ASİ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ÜRİ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İMİDİ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OKSİRİBO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DENİ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UANİ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İTOZİ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İMİ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İBO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DENİ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UANİ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İTOZİ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RASİ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) DEOKSİRİBONÜKLEİK ASİT(DNA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87640" y="2017800"/>
            <a:ext cx="41670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Çift zincirlidir ve sarmal yapıdadı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• Deoksiriboz şekeri bulunu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• Nükleotitleri A,T,G,S’di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• Adenin sayısı Timin sayısına,Guanin sayısı Sitozin sayısına eşitti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• Adenin ile Timin arasında iki,Guanin ile Sitozin arasında ise üç tane zayıf hidrojen bağı vardır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4105080" cy="38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280" y="2133720"/>
            <a:ext cx="46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Kendini tek taraflı olarak eşleyebilir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Genlerdeki değişmeye mutasyon denir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Mitokondri ,kloroplast ,çekirdek ,çekirdek yoksa sitoplazmada bulunabilir. Ancak kloroplast ve mitokondrideki DNA’lar kalıtım materyali sayılmazlar,bunlar eşlenirken çekirdek DNA’sına </a:t>
            </a:r>
            <a:br>
              <a:rPr sz="1600"/>
            </a:b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bağımlıdırlar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DNA tabiatta kendini eşleyerek benzerini yapabilen tek moleküldür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DNA sentezi sırasında açığa çıkan su sayısı (n;nükleotit sayısı olmak üzere) 3n-2 tanedir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867280" y="2060640"/>
            <a:ext cx="24894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NA’nın Eşlenmesi</a:t>
            </a:r>
            <a:br>
              <a:rPr sz="4400"/>
            </a:b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(Replikasyo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355640" y="1988640"/>
            <a:ext cx="45990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DNA kendini yarı korunumlu olarak eşle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• Bu olaylar hücre bölünmesinin interfaz safhasında meydana geli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• Replikasyonda görev alan enzim DNA polimeraz enzimidir.(Şekil-1) 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• DNA’nın kendini bu şekilde yarı korunumlu olarak eşlemesine seminkonservatif eşlenme denir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89000" y="1989000"/>
            <a:ext cx="40179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4920" y="2205000"/>
            <a:ext cx="43210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r hücrede DNA’nın eşlenmeye başlaması hücrenin mutlaka bölüneceği anlamına gelir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ğer DNA bir ucundan değil de orta kısımlarından açılırsa protein sentezi için şifre verecek demektir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43280" y="2060640"/>
            <a:ext cx="427068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NA’nın Görev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onuçta; oluşan DNA’lar aynı genetik bilgiyi taşır,hücre sayısı artar,canlılarda büyüme ve üreme olur, üremeyle karakterler yavrulara aktarılır.</a:t>
            </a:r>
            <a:br>
              <a:rPr sz="2800"/>
            </a:b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• DNA’nın görevi canlılar arasındaki çeşitliliği sağlamak ,hücreyi yönetmek ,replikasyon ile </a:t>
            </a:r>
            <a:br>
              <a:rPr sz="2800"/>
            </a:b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canlılarda büyüme ve kalıtsal karakterlerin aktarılmasını sağlamak,trankripsiyon ile de RNA </a:t>
            </a:r>
            <a:br>
              <a:rPr sz="2800"/>
            </a:b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entezini yapmaktır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2T20:47:31Z</dcterms:created>
  <dc:creator>samsung</dc:creator>
  <dc:description/>
  <dc:language>en-US</dc:language>
  <cp:lastModifiedBy>samsung</cp:lastModifiedBy>
  <dcterms:modified xsi:type="dcterms:W3CDTF">2010-12-22T23:21:08Z</dcterms:modified>
  <cp:revision>3</cp:revision>
  <dc:subject/>
  <dc:title>Slayt 1</dc:title>
</cp:coreProperties>
</file>